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90360" y="744120"/>
            <a:ext cx="66168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59C0-77D6-426E-AB48-B615601D881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C3E1-F165-4DA6-AFC5-0EED573DF75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A866-D694-49E0-86C5-28006E3AC98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D0E3-78F5-4578-B100-21BD3A6D5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46C5-1DF3-458E-A0F7-DF144249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3294-0096-4E83-83D8-D34EC1986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D480-43AB-40C1-BB29-D61265959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12431-289A-4864-B0EB-1EE6E53B4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E6F7-6706-4EB9-8068-8143E413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24C3-324F-4F36-B6F3-60B0F920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D8336-08D1-4D37-A66E-F12C5F74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98B39-B923-47C6-8800-1375DBEC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3CC08-6266-41A4-AA08-D899DD02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BEEEB-D74D-451E-9974-6856EBEC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58AA-B08F-48D4-9F57-4D973A23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2D10-5B66-40F3-955C-92129331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BC12-2172-4024-8F62-C6842EE6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9D9D-5612-49B3-BAA6-003957E2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6DDE-2F4F-4CA3-A031-4C244F6D8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A0FD-CFB4-4078-BBD8-743D01EDC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47B4D-32FC-4A72-B9DD-636486442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9C156-5DAE-4367-B2F3-AA0D7C86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ABBE0-B5CE-4B39-AA51-8050A8EF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79ADF-3361-4241-9605-2CA59FB2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C1D1C-0440-417B-A3BF-C0446018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36D5-5C29-4A67-B0F8-9BFB6249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33AD2-E763-472C-99B2-2BD49F3D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4929F-2089-4F02-BA35-52E2EB84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0910F-8659-4FB3-857F-A1D81908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D84B8-5947-4F3D-9F32-C01D407A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3488F-C6E6-4433-95A3-25ED1107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8E7EC-B61F-4F03-844F-B972AE8C0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6A341-5F43-448F-AE38-580E5F30C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17E1E-A159-44F6-A148-974302065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3509D-4516-4425-9E45-C893C7B7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1D5A1-5794-443A-817B-BA852F04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9752-7AEF-4965-9977-30894213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51AE3-B2AD-4E2E-A547-70329595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36FDE-085A-493B-81D8-A89C877C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F1A2D-A184-427D-BB20-CD5B99F1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61104-FC39-480C-9D02-97E0D1AC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ECFE2-AEA2-4C7E-8D3F-B3335FF9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D4FA3-592D-470B-9934-C6A37936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E6484-2079-4F58-BB6F-0C3242966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BCECE-ED1E-45D6-8ED0-40F86E693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FBDDA-DE86-4C46-80B7-CB1FB18D3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948FA-2ABB-4826-80D1-068CDB797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AB7D-0A7B-4EE7-A01B-152F5129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949AF-6BA3-49D3-BC6F-2353B7AC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F1CC0-D729-49F3-80EF-66B35D77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2A390-CE3D-4616-908C-11BD57FF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4F1E4-26E4-49AE-9E47-36DE11D3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31117-F205-4CE2-8C39-E2ABA0E5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45B6E-CEDF-4FA6-861A-73743FF1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92F3C-A94F-485E-8162-89A38356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724F1-2E2C-47C0-924D-B6A9239D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3FE59-9263-44DB-8911-52128A51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A7412-BDFD-49D7-A4CB-DB96D45B8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3842-D379-4B1B-85E7-B1A0AF3B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70B16-C7D2-42EB-B3D5-35E2DB2A6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9F384-B61A-4312-BFF9-F16A89ADF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7F45B-51A0-497B-AF14-D848F571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4F42A-94EE-4DE8-B76F-8532C961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3ABBB-A177-4484-A60A-EF00C896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B4998-AE58-4B64-B300-1276DAA9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FD699-7B96-450E-A530-5E82DA64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9F4C3-A222-43FA-87BC-42394D43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65E4D-F0ED-447F-B74C-5A3347BF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332BD-B947-4735-81AC-256A4E3D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AE3D-42F5-4D42-ABAA-784CD79E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48C36-B09A-4047-9AA8-12B1DA45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653DB-F6BE-4C71-A357-5B9514DDF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9D859-4AF0-4D57-9184-F45313ABC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D327-8499-477A-A17B-67718490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4FE2-3E33-4E3E-B2FC-07494645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D439-69DE-4C02-9489-EC8763E2A885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51D2-28C7-44DD-9684-1BACA4C68A3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2D26-6FD5-4163-9EEE-69B18C05F370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885B-9486-4620-BBCF-EA332622AF98}" type="slidenum">
              <a:rPr b="1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EF8C-85A5-4009-A903-51A6758C14C4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16E7-7D18-45BE-934A-9FBBA0A0610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1F7C-7FA3-4FE1-B21A-D2E1261C58B8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DBD8-0679-4754-A3AA-1C37D16E067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79" name="Retângulo 9"/>
          <p:cNvSpPr/>
          <p:nvPr/>
        </p:nvSpPr>
        <p:spPr>
          <a:xfrm>
            <a:off x="11106000" y="6356520"/>
            <a:ext cx="384480" cy="501480"/>
          </a:xfrm>
          <a:prstGeom prst="rect">
            <a:avLst/>
          </a:prstGeom>
          <a:solidFill>
            <a:srgbClr val="92d05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A25B-55E3-4160-BD97-2E7CC124DDF8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83B1-1753-4510-BB92-B2B8A742666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20FD-1EF6-49CF-A2BE-6A1FBB68E731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B70E-24C6-4A9E-A07D-ED684962E4D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Figura2"/>
          <p:cNvPicPr/>
          <p:nvPr/>
        </p:nvPicPr>
        <p:blipFill>
          <a:blip r:embed="rId1"/>
          <a:stretch/>
        </p:blipFill>
        <p:spPr>
          <a:xfrm>
            <a:off x="2208240" y="1189080"/>
            <a:ext cx="7543800" cy="519264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"/>
          <p:cNvSpPr/>
          <p:nvPr/>
        </p:nvSpPr>
        <p:spPr>
          <a:xfrm>
            <a:off x="2567160" y="1413000"/>
            <a:ext cx="693396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RESULTADO DO REGIME GERAL DE PREVIDÊNCIA SOCIAL – RGP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Maio/20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rasília, junho de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2063880" y="616572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RGPS – Subsecretaria do Regime Geral de Previdência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334800" y="692280"/>
            <a:ext cx="1080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Imagem 1" descr=""/>
          <p:cNvPicPr/>
          <p:nvPr/>
        </p:nvPicPr>
        <p:blipFill>
          <a:blip r:embed="rId1"/>
          <a:stretch/>
        </p:blipFill>
        <p:spPr>
          <a:xfrm>
            <a:off x="372960" y="1268280"/>
            <a:ext cx="11484000" cy="52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1523880" y="76500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de Maio de 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351000" y="646920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Imagem 1" descr=""/>
          <p:cNvPicPr/>
          <p:nvPr/>
        </p:nvPicPr>
        <p:blipFill>
          <a:blip r:embed="rId1"/>
          <a:stretch/>
        </p:blipFill>
        <p:spPr>
          <a:xfrm>
            <a:off x="341280" y="1484280"/>
            <a:ext cx="11515680" cy="498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334800" y="731880"/>
            <a:ext cx="10801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263520" y="648324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Imagem 1" descr=""/>
          <p:cNvPicPr/>
          <p:nvPr/>
        </p:nvPicPr>
        <p:blipFill>
          <a:blip r:embed="rId1"/>
          <a:stretch/>
        </p:blipFill>
        <p:spPr>
          <a:xfrm>
            <a:off x="334800" y="1450800"/>
            <a:ext cx="1152216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URB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285840" y="836640"/>
            <a:ext cx="10850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Maio (2016 e 2017) – Em R$ milhões de Mai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285840" y="646416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Imagem 1" descr=""/>
          <p:cNvPicPr/>
          <p:nvPr/>
        </p:nvPicPr>
        <p:blipFill>
          <a:blip r:embed="rId1"/>
          <a:stretch/>
        </p:blipFill>
        <p:spPr>
          <a:xfrm>
            <a:off x="285840" y="1413000"/>
            <a:ext cx="11571120" cy="50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334800" y="765000"/>
            <a:ext cx="10730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Maio (2016 e 2017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Imagem 1" descr=""/>
          <p:cNvPicPr/>
          <p:nvPr/>
        </p:nvPicPr>
        <p:blipFill>
          <a:blip r:embed="rId1"/>
          <a:stretch/>
        </p:blipFill>
        <p:spPr>
          <a:xfrm>
            <a:off x="334800" y="1270080"/>
            <a:ext cx="1080144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R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334800" y="765000"/>
            <a:ext cx="1080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Maio (2016 e 2017) – Em R$ milhões de Mai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34800" y="633744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Imagem 1" descr=""/>
          <p:cNvPicPr/>
          <p:nvPr/>
        </p:nvPicPr>
        <p:blipFill>
          <a:blip r:embed="rId1"/>
          <a:stretch/>
        </p:blipFill>
        <p:spPr>
          <a:xfrm>
            <a:off x="306360" y="1333440"/>
            <a:ext cx="1082988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1523880" y="8366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e Maio (2016 e 2017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Imagem 1" descr=""/>
          <p:cNvPicPr/>
          <p:nvPr/>
        </p:nvPicPr>
        <p:blipFill>
          <a:blip r:embed="rId1"/>
          <a:stretch/>
        </p:blipFill>
        <p:spPr>
          <a:xfrm>
            <a:off x="334800" y="1473120"/>
            <a:ext cx="1080144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1523880" y="981000"/>
            <a:ext cx="9144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334800" y="698400"/>
            <a:ext cx="10801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de Maio de 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312840" y="645480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Imagem 1" descr=""/>
          <p:cNvPicPr/>
          <p:nvPr/>
        </p:nvPicPr>
        <p:blipFill>
          <a:blip r:embed="rId1"/>
          <a:stretch/>
        </p:blipFill>
        <p:spPr>
          <a:xfrm>
            <a:off x="352440" y="1341360"/>
            <a:ext cx="10783800" cy="5113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16:57:42Z</dcterms:created>
  <dc:creator>46163212134</dc:creator>
  <dc:description/>
  <dc:language>en-US</dc:language>
  <cp:lastModifiedBy>Silvana do Socorro Machado Rodrigues - MPS</cp:lastModifiedBy>
  <cp:lastPrinted>2017-01-26T10:42:46Z</cp:lastPrinted>
  <dcterms:modified xsi:type="dcterms:W3CDTF">2017-06-27T21:55:03Z</dcterms:modified>
  <cp:revision>415</cp:revision>
  <dc:subject/>
  <dc:title>Demografia</dc:title>
</cp:coreProperties>
</file>